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658-8613-4CED-A05B-86E2C508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B74-944C-43B8-B134-B0513B9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F0A-FCBA-4B05-996E-E6B9D91C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537-67CF-49DF-83FD-0A1B85A4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777A-EAA0-4701-B750-86D9E750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DAC5-7778-4AE2-A6C3-F9CE3BDA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9896-FA54-47FC-A306-7B7B8601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20BF-C222-4FD6-9684-7B9482DC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AF00-F2D0-4250-BB33-F256D3F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A63C-8559-41FB-8123-14E4747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7137-AF5D-46EB-8A69-F65ED2E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F95-6A69-4097-B185-C34D635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8BB2-A271-4D16-A3BE-0A475A5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44A-1C9F-4FB8-BAA0-D2C3764E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6B5-B6BC-4BFC-9A22-104B1F64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1D38-1825-4F99-A53C-C3B71A63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F9D-3A35-4A7D-A5D7-C01D94E9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EA5C-9515-4EFB-96B6-93B6D6BB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6B1F-52F0-4227-AC42-33662AF2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4CF8-7FFB-4245-BDA7-6849AB60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26BD-00CE-4E6F-B3A5-C91704E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5FE4-214B-45B8-B1AB-92E31A64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049-B2C5-4020-AB85-35A0C8BA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5344-9E39-4207-92EA-ADCD185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8D41-5B1C-4C82-B891-9743E8C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1EE2-1743-4CB1-93D3-3158141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32D9-9E97-4F97-8D6D-7DF1271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2159-0F9F-4F75-9624-2834E025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4ED8-2216-45A3-AC8B-ABDC43F3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2118-9902-4180-80A9-BBA35947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7DC0-77CF-46E2-9497-71CD9C27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CF94-2D05-4D91-B053-4671259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17B1-C53A-4A3B-B740-AE4A591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692-E79F-407E-A6AF-ED1AF3C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34CA-3BC2-40E5-9EB0-EA5422F5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3E50-8B23-4C4E-8B20-F70D980F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5F1F-74DE-4173-BBD8-3D3475B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5032-5278-49EE-9947-39050D9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01C4-B068-4962-9712-0D6E02D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A0DA7-1072-40DE-887D-2748A28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8D5C-8949-4A54-AF0E-BB25701A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5DCC-B302-4EA7-9397-4A749836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C545-C0B4-409E-B536-C0CCAB6B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7B772-05B0-48D4-B83B-BB4D60F4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ABC-7C7A-40A6-9BD2-6BCED889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C479-6305-41B0-B67C-7CFA3CAF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7F33-3B6D-46E6-A575-A51CC8E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3506-3828-44F2-9D40-866C40B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0E0CD-8896-437B-B68F-08C92AA1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2E58-C9F1-4EA2-B334-AB5A6E29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E768-4D5F-44A6-A303-1E4DF47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54AF-F495-4859-BC54-711D80F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BE5E-927C-421C-A10D-8B68767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0369-8DA1-41E7-808C-1C167521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C7CC-0380-4EEE-BDDB-885D42AC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248-357C-4AA1-8BAD-0CC69160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CC02-4250-4A68-9008-719FB47F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8F53D-2B8D-473F-9A10-A83101FA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8B46-3DA1-4E7B-9A89-10FF6A48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07A79-B89E-4255-A417-D999CAF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A9DC-89AA-4B02-A9B7-825FA7A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05584-2EC1-471F-AEB0-2B9D1B7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6D36C-0066-48EE-B4AD-F9B08679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4ADDC-8752-4862-AE96-AA4F6A9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B34D-7634-4AA7-9093-5576B13A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0029-DE8B-46E8-9814-CC5DFEE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E59-C2BC-44D1-BC3C-CC738566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EC1D-8812-41CD-9A71-08E11F56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E361-26AD-41F7-BA98-D4A0DBF1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1407-04DB-4783-B5D3-FFAAF357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583B-829C-4E69-95C1-69FB49E0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14FAA-531F-4279-8F53-4EAF038D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1266-3EF0-4FF8-9F76-B6AB69F9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186E1-71F8-492C-AE89-22E79823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7180-4ECE-4D04-9CE1-CB24D5E4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29153-028C-405A-B866-D29007D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B4A75-733D-4735-9349-A778527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471-0571-4785-B29C-10B326D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4794E-5959-4209-BE74-BFBA757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912B-B27C-4D97-B875-946B839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CC6CF-9932-4B57-AC4E-2C70BCF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29B05-E9CD-4C1C-A393-BECB9AB3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3ABD-BD1C-4F7D-AAB1-9FC12A9F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3918C-A03C-4399-9881-FE838652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308C-E425-4D2F-8B5C-ECF063BE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26027-C018-4256-BB13-9AECD8B8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6E97-490D-4D23-8970-92813787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2783-DC77-40E0-927F-61701E2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8AE-A6A5-417F-8EA3-D3B38735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3873-CC48-4D97-941F-89F1E9FF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3F646-3D65-458F-AB5B-5CF0D6B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A541-2635-49EC-9ED0-33C0982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812C-0D74-4582-92F1-85E239CC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0DF2-AE28-4A50-8911-120C5402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BFA9-8764-48AA-894E-F5114254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8492-D25D-4342-946C-696D33E8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708-35E2-4715-8FB1-0E0C1C15B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164-D521-41B9-895A-4D849F08DF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CA63-5B7B-4BBE-B9F7-1207032856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5087-FA3B-4C58-BEC5-C7301B2E7B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4500-11F9-4BA3-A5DC-7A6135A258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9FE2-137F-4332-A1DB-FA23F004A6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9DC-4B3C-40EA-AB52-6CC266592F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8A2B-F7D6-4132-9B1B-5405B2A50F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69280" cy="260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. Jennifer Kate P. T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3, Room Ap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011 to March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752480"/>
            <a:ext cx="40402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cosyste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ther and Clim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spiratory Syste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45080" y="1752480"/>
            <a:ext cx="4041720" cy="3633840"/>
            <a:chOff x="4645080" y="1752480"/>
            <a:chExt cx="4041720" cy="3633840"/>
          </a:xfrm>
        </p:grpSpPr>
        <p:pic>
          <p:nvPicPr>
            <p:cNvPr id="377" name="Content Placeholder 6" descr=""/>
            <p:cNvPicPr/>
            <p:nvPr/>
          </p:nvPicPr>
          <p:blipFill>
            <a:blip r:embed="rId3"/>
            <a:stretch/>
          </p:blipFill>
          <p:spPr>
            <a:xfrm>
              <a:off x="4645080" y="1752480"/>
              <a:ext cx="4041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 txBox="1"/>
            <p:nvPr/>
          </p:nvSpPr>
          <p:spPr>
            <a:xfrm>
              <a:off x="4645080" y="1752480"/>
              <a:ext cx="4041720" cy="36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55600"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752480"/>
            <a:ext cx="40402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ssa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645080" y="1676520"/>
            <a:ext cx="4041720" cy="3709800"/>
            <a:chOff x="4645080" y="1676520"/>
            <a:chExt cx="4041720" cy="3709800"/>
          </a:xfrm>
        </p:grpSpPr>
        <p:pic>
          <p:nvPicPr>
            <p:cNvPr id="384" name="Content Placeholder 5" descr=""/>
            <p:cNvPicPr/>
            <p:nvPr/>
          </p:nvPicPr>
          <p:blipFill>
            <a:blip r:embed="rId3"/>
            <a:stretch/>
          </p:blipFill>
          <p:spPr>
            <a:xfrm>
              <a:off x="4645080" y="1676520"/>
              <a:ext cx="404172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 txBox="1"/>
            <p:nvPr/>
          </p:nvSpPr>
          <p:spPr>
            <a:xfrm>
              <a:off x="4645080" y="1676520"/>
              <a:ext cx="4041720" cy="370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55600"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752480"/>
            <a:ext cx="40402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ole numb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ps &amp; Graph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45080" y="1752480"/>
            <a:ext cx="4041720" cy="3633840"/>
            <a:chOff x="4645080" y="1752480"/>
            <a:chExt cx="4041720" cy="3633840"/>
          </a:xfrm>
        </p:grpSpPr>
        <p:pic>
          <p:nvPicPr>
            <p:cNvPr id="391" name="Content Placeholder 5" descr=""/>
            <p:cNvPicPr/>
            <p:nvPr/>
          </p:nvPicPr>
          <p:blipFill>
            <a:blip r:embed="rId3"/>
            <a:stretch/>
          </p:blipFill>
          <p:spPr>
            <a:xfrm>
              <a:off x="4645080" y="1752480"/>
              <a:ext cx="4041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 txBox="1"/>
            <p:nvPr/>
          </p:nvSpPr>
          <p:spPr>
            <a:xfrm>
              <a:off x="4645080" y="1752480"/>
              <a:ext cx="4041720" cy="36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55600"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43:14Z</dcterms:created>
  <dc:creator>WL4</dc:creator>
  <dc:description/>
  <dc:language>en-US</dc:language>
  <cp:lastModifiedBy>User</cp:lastModifiedBy>
  <dcterms:modified xsi:type="dcterms:W3CDTF">2011-10-17T20:32:32Z</dcterms:modified>
  <cp:revision>4</cp:revision>
  <dc:subject/>
  <dc:title>NorthEast II- A Central School</dc:title>
</cp:coreProperties>
</file>